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9.gif" ContentType="image/gif"/>
  <Override PartName="/ppt/media/image19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758-8335-4C1D-8694-185D44A3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3BD-E966-4C72-8116-E6141DF3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DFD-015E-4DD8-9D8B-6D220738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C04-8536-41A9-BAF5-F1F42373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8485-48F9-494F-9E13-45B953ED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92B3-E081-40B6-A703-5A8812A1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FDB1-7A87-4BAB-ADAE-10B427D5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4BDF-B5F0-437F-A66A-5831B926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0546-1ECB-40C6-A43E-4004E14E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8526-FDC0-47FE-8E5F-7498D817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138B-5607-4DB0-9F56-BD208253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BCB-6B38-4BA2-B625-51B8A8CE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A0CF-7BBE-4AC7-8B21-FCEA406F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F265-1808-4562-A2CA-B8E5585F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EA9A-02F6-4385-80E8-D662DC02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12C4-D4D1-4B19-9759-044D2DDC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119C-C4CA-4BC8-9728-96274431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E799-CACC-4F73-BF8D-DC4112DC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1E746-EE2F-4C94-A49B-13AB08F6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B84C8-81F5-4EEB-B3C8-096CA271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77DAB-9AC2-4817-ADC4-3FE5D112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8417F-5E60-4C82-9FD5-DD7899EE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DBD7-EBDD-4FD1-8621-656AF979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855D9-5E71-4365-A1E5-4C0709B7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31989-C593-472A-8B99-860664C0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9D0B-54DF-483D-8302-D73E485D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B3A67-0102-4764-90FE-6B098D5A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4C76C-DF3C-4F1B-9971-A77FF653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76610-1A42-4FA2-B707-23ED0A94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5CF39-0BD7-481F-A38E-41DAD0BF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BD528-7AA7-4E63-BD68-DA2496C6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D7D97-8A25-45BE-817B-C94AA699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1A4B8-0F22-46D6-9CBE-5D12639D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67FE-9836-44E7-BA3C-E5652928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61743-AFE2-453A-B768-5507EA72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B8785-2BEF-4124-A5DC-F70A3065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CDE7C-60E9-42A2-AFF8-2E77A03A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054E9-6764-45B8-B7A5-B7E9425C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3F3A2-5A03-4DBA-AAEA-27AD3D34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F2150-AE3E-404C-9D09-DEEB2991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4C2CC-601F-4B66-B355-3FCEF438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C4201-754F-4B3E-BDDA-687D9A5B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1F3A5-785B-4A5E-A26D-BF9F11E2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9FF23-3ECE-49BD-8693-9C038324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C94-CB1A-4992-9BF9-E66CB92A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CDA5B-F499-4828-B3C9-6D5DD814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53AEE-06DE-46E9-8EC6-CC55FC34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BC4F0-8936-4FFD-946F-CC408BA5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0692C-B769-48D9-A3C2-F78C32DD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C554F-0A13-476A-8A8F-38AD12E2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1485B-6478-49A4-8CA7-85C59B70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B0A29-D826-4FE1-8E47-AEB1E4B8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E5574-A979-4179-8F0B-9EBCF61A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A875F-E1D8-40FF-B1E2-1D9D2B0F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4572D-E4D1-4842-8696-5D6C0913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8AB-76AD-41F6-B473-F5E8F9A5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1C384-87D0-460E-B7E7-0F06603E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BBD9-5A04-43CD-98F9-0AC8BD4D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09B-1A02-4FF6-82FB-53AE79A4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74D-9F59-4194-9CE3-28B8A7BB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3E9B-981F-4A9C-AAC9-65EFAE6AB23B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6451-52EA-4F39-BD82-07C9B4113960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4BEA-1446-41AA-B7B1-2DCBC726D187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6793-6520-4E37-9AF5-65B69EE7BA96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2784-2625-430B-935A-B06451E45A05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520" y="306216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«Миссия жить!»</a:t>
            </a:r>
            <a:br>
              <a:rPr sz="7200"/>
            </a:br>
            <a:br>
              <a:rPr sz="8000"/>
            </a:br>
            <a:endParaRPr b="0" lang="en-US" sz="72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19" name="Рисунок 5" descr="misli_html_m658e97f.gif"/>
          <p:cNvPicPr/>
          <p:nvPr/>
        </p:nvPicPr>
        <p:blipFill>
          <a:blip r:embed="rId1"/>
          <a:stretch/>
        </p:blipFill>
        <p:spPr>
          <a:xfrm>
            <a:off x="3276720" y="3276720"/>
            <a:ext cx="2670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2133720" y="152280"/>
            <a:ext cx="464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5" descr="79857"/>
          <p:cNvPicPr/>
          <p:nvPr/>
        </p:nvPicPr>
        <p:blipFill>
          <a:blip r:embed="rId1"/>
          <a:stretch/>
        </p:blipFill>
        <p:spPr>
          <a:xfrm>
            <a:off x="-457200" y="20574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2286000" y="1860480"/>
            <a:ext cx="6172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 статистике в нашей стране курят около 60% мужчин и 50-55% женщ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урение табака представляет серьезную угрозу для здоровья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ым табака содержит около 3 тысяч  химических веществ, которые повреждают живые ткани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икотин – один из самых ядовитых веществ, который во время курения всасывается из легких в кровь в течение 7 секунд и проникает во все органы организм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 время курения происходит сужение сосудов головного мозга, что повышает кровяное давл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ыкуривание одной сигареты приводит к учащению пульса на 18-20 ударов в мину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0027-027-Fotografii-ljudej-do-i-posle-togo-kak-oni-nachali-prinimat-narkoti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1327878049_0_77549_c409d38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5"/>
          <p:cNvSpPr/>
          <p:nvPr/>
        </p:nvSpPr>
        <p:spPr>
          <a:xfrm>
            <a:off x="380880" y="34596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Дети Белгорода против вредных привыче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57200" y="990720"/>
            <a:ext cx="832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Белгороде за борьбу с наркотиками и алкоголем взялись юные жители го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«Нет вредным привычкам!»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казали белгородские дети и нарисова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ножество плакатов и комиксо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 заданную тему, пытаясь тем самы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стучаться до своих же сверстнико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потребляющих наркотики и алкогол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429000" y="4038480"/>
            <a:ext cx="5486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етья городская выставка «Наше здоровье в наших руках» объедини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лодых художников из 33 школ Белгорода. Свыше 200 работ в экспоз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ссказывают о вреде наркотиков, табака и алкоголя, о пользе занятий спортом и здорового, позитивного  образа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9" descr="12294288276042"/>
          <p:cNvPicPr/>
          <p:nvPr/>
        </p:nvPicPr>
        <p:blipFill>
          <a:blip r:embed="rId1"/>
          <a:stretch/>
        </p:blipFill>
        <p:spPr>
          <a:xfrm>
            <a:off x="152280" y="41911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1549_2986"/>
          <p:cNvPicPr/>
          <p:nvPr/>
        </p:nvPicPr>
        <p:blipFill>
          <a:blip r:embed="rId2"/>
          <a:stretch/>
        </p:blipFill>
        <p:spPr>
          <a:xfrm>
            <a:off x="5638680" y="13716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0035_015_zdorovyj_obraz_zhizni_shkolnik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1203480" y="6280200"/>
            <a:ext cx="67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А что выбираешь т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9" descr="d7aca78f3587"/>
          <p:cNvPicPr/>
          <p:nvPr/>
        </p:nvPicPr>
        <p:blipFill>
          <a:blip r:embed="rId2"/>
          <a:stretch/>
        </p:blipFill>
        <p:spPr>
          <a:xfrm rot="19644000">
            <a:off x="2057400" y="380520"/>
            <a:ext cx="1380960" cy="981360"/>
          </a:xfrm>
          <a:prstGeom prst="rect">
            <a:avLst/>
          </a:prstGeom>
          <a:ln w="0">
            <a:noFill/>
          </a:ln>
        </p:spPr>
      </p:pic>
      <p:pic>
        <p:nvPicPr>
          <p:cNvPr id="264" name="rojdestvo_-_ti_znaesh_tak_hochetsya_jit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074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37774_m"/>
          <p:cNvPicPr/>
          <p:nvPr/>
        </p:nvPicPr>
        <p:blipFill>
          <a:blip r:embed="rId1"/>
          <a:stretch/>
        </p:blipFill>
        <p:spPr>
          <a:xfrm>
            <a:off x="2514600" y="1905120"/>
            <a:ext cx="4143240" cy="42670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609480" y="6858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72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Слово «миссия» происходит от латыни:                       miss – послать.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Это означает, что люди живут не просто так,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мы посланы на землю с определённым заданием, которое необходимо выполнить в течение жизни.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А для этого нужно в первую очередь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иметь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Monotype Corsiva"/>
              </a:rPr>
              <a:t>крепкое здоровье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1" name="Picture 7" descr="aee36fd9ad4f343ebeb4c08bf03607ed"/>
          <p:cNvPicPr/>
          <p:nvPr/>
        </p:nvPicPr>
        <p:blipFill>
          <a:blip r:embed="rId1"/>
          <a:stretch/>
        </p:blipFill>
        <p:spPr>
          <a:xfrm>
            <a:off x="7086600" y="4800600"/>
            <a:ext cx="171468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CCCP_150dpi"/>
          <p:cNvPicPr/>
          <p:nvPr/>
        </p:nvPicPr>
        <p:blipFill>
          <a:blip r:embed="rId1"/>
          <a:stretch/>
        </p:blipFill>
        <p:spPr>
          <a:xfrm>
            <a:off x="228600" y="533520"/>
            <a:ext cx="3962520" cy="5333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4419720" y="380880"/>
            <a:ext cx="47242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Древнегреческий             философ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03030"/>
                </a:solidFill>
                <a:uFillTx/>
                <a:latin typeface="Monotype Corsiva"/>
              </a:rPr>
              <a:t>Фалес   Милетский</a:t>
            </a:r>
            <a:r>
              <a:rPr b="1" i="1" lang="ru-RU" sz="4000" spc="-1" strike="noStrike">
                <a:solidFill>
                  <a:srgbClr val="303030"/>
                </a:solidFill>
                <a:latin typeface="Monotype Corsiv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счастлив тот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кто здоров телом,  восприимчив душой и  податлив 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воспитан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5" name="Picture 5" descr="smiley-thinking-2.png (110×105)"/>
          <p:cNvPicPr/>
          <p:nvPr/>
        </p:nvPicPr>
        <p:blipFill>
          <a:blip r:embed="rId1"/>
          <a:stretch/>
        </p:blipFill>
        <p:spPr>
          <a:xfrm>
            <a:off x="152280" y="609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smiley-thinking.png (110×110)"/>
          <p:cNvPicPr/>
          <p:nvPr/>
        </p:nvPicPr>
        <p:blipFill>
          <a:blip r:embed="rId2"/>
          <a:stretch/>
        </p:blipFill>
        <p:spPr>
          <a:xfrm>
            <a:off x="7696080" y="5410080"/>
            <a:ext cx="1276560" cy="1276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2270160" y="102240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676520" y="457200"/>
            <a:ext cx="6933960" cy="71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По данным ежегодного доклада Государственного комитета РФ по делам молодеж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меньшение числа населения, ухудшение здоровья молодежи приводит к негативным тенденциям сохранения генофонда нации, что, в свою очередь, может составить угрозу для развития, модернизации стран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этой связи поднимается вопрос о необходимости выработки специальной государственной политики по формированию здорового образа жизни молодеж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ObrazGizny"/>
          <p:cNvPicPr/>
          <p:nvPr/>
        </p:nvPicPr>
        <p:blipFill>
          <a:blip r:embed="rId1"/>
          <a:stretch/>
        </p:blipFill>
        <p:spPr>
          <a:xfrm>
            <a:off x="0" y="457200"/>
            <a:ext cx="9220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914400" y="-45648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основы здорового образа жизн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ходят такие понятия как 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33520" y="1144800"/>
            <a:ext cx="815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питание здоровых привычек и навыков с раннего детства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зопасная и благоприятная окружающая сред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каз от вредных привычек- употребления алкоголя, курения, употребления наркоти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ренное пита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зически активная жизн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блюдение правил общественной и личной гигиен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8" descr="71663365_1299447200_366032"/>
          <p:cNvPicPr/>
          <p:nvPr/>
        </p:nvPicPr>
        <p:blipFill>
          <a:blip r:embed="rId1"/>
          <a:stretch/>
        </p:blipFill>
        <p:spPr>
          <a:xfrm>
            <a:off x="7086600" y="304920"/>
            <a:ext cx="1549440" cy="167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animated-gifs-justice-023"/>
          <p:cNvPicPr/>
          <p:nvPr/>
        </p:nvPicPr>
        <p:blipFill>
          <a:blip r:embed="rId2"/>
          <a:stretch/>
        </p:blipFill>
        <p:spPr>
          <a:xfrm>
            <a:off x="762120" y="2362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animated-gifs-justice-023"/>
          <p:cNvPicPr/>
          <p:nvPr/>
        </p:nvPicPr>
        <p:blipFill>
          <a:blip r:embed="rId3"/>
          <a:stretch/>
        </p:blipFill>
        <p:spPr>
          <a:xfrm>
            <a:off x="228600" y="30481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animated-gifs-justice-023"/>
          <p:cNvPicPr/>
          <p:nvPr/>
        </p:nvPicPr>
        <p:blipFill>
          <a:blip r:embed="rId4"/>
          <a:stretch/>
        </p:blipFill>
        <p:spPr>
          <a:xfrm>
            <a:off x="762120" y="3505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animated-gifs-justice-023"/>
          <p:cNvPicPr/>
          <p:nvPr/>
        </p:nvPicPr>
        <p:blipFill>
          <a:blip r:embed="rId5"/>
          <a:stretch/>
        </p:blipFill>
        <p:spPr>
          <a:xfrm>
            <a:off x="152280" y="41148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animated-gifs-justice-023"/>
          <p:cNvPicPr/>
          <p:nvPr/>
        </p:nvPicPr>
        <p:blipFill>
          <a:blip r:embed="rId6"/>
          <a:stretch/>
        </p:blipFill>
        <p:spPr>
          <a:xfrm>
            <a:off x="152280" y="5105520"/>
            <a:ext cx="495360" cy="53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animated-gifs-justice-023"/>
          <p:cNvPicPr/>
          <p:nvPr/>
        </p:nvPicPr>
        <p:blipFill>
          <a:blip r:embed="rId7"/>
          <a:stretch/>
        </p:blipFill>
        <p:spPr>
          <a:xfrm>
            <a:off x="762120" y="4572000"/>
            <a:ext cx="49536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291716560_1d1a78c561_1756778d18d3cdba0f27da485f0d974a_6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65040" y="2514600"/>
            <a:ext cx="247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е сложное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8"/>
          <p:cNvSpPr/>
          <p:nvPr/>
        </p:nvSpPr>
        <p:spPr>
          <a:xfrm rot="19939200">
            <a:off x="5394240" y="3717720"/>
            <a:ext cx="32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тказаться от вредных привычек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9"/>
          <p:cNvSpPr/>
          <p:nvPr/>
        </p:nvSpPr>
        <p:spPr>
          <a:xfrm rot="1595400">
            <a:off x="517320" y="685800"/>
            <a:ext cx="25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Алкогол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0"/>
          <p:cNvSpPr/>
          <p:nvPr/>
        </p:nvSpPr>
        <p:spPr>
          <a:xfrm rot="20149800">
            <a:off x="6400800" y="685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уре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1"/>
          <p:cNvSpPr/>
          <p:nvPr/>
        </p:nvSpPr>
        <p:spPr>
          <a:xfrm rot="20225400">
            <a:off x="411840" y="45817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аркотик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657440" y="201600"/>
            <a:ext cx="53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7" descr="79857"/>
          <p:cNvPicPr/>
          <p:nvPr/>
        </p:nvPicPr>
        <p:blipFill>
          <a:blip r:embed="rId1"/>
          <a:stretch/>
        </p:blipFill>
        <p:spPr>
          <a:xfrm>
            <a:off x="-533520" y="-60948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380880" y="21463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ществует статистика, что каждая десятая будущая мама принимает наркотики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асто в семьях наркоманов ребенок подвергается физическому насилию, что заставляет его испытывать страх и наносит огромный вред детской психи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равнение со своими сверстниками заставляет детей наркоманов чувствовать себя ущербными и никому не нужными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ти наркоманов почти всегда идут по стопам родителей - становятся наркоманами, попадают в тюрьмы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2133720" y="23976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6" descr="79857"/>
          <p:cNvPicPr/>
          <p:nvPr/>
        </p:nvPicPr>
        <p:blipFill>
          <a:blip r:embed="rId1"/>
          <a:stretch/>
        </p:blipFill>
        <p:spPr>
          <a:xfrm>
            <a:off x="-152280" y="2133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2666880" y="2057400"/>
            <a:ext cx="571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, как психоактивное вещество, оказывает пагубное влияние на функции многих систем орган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замедляет работу нервной системы мозга, поражает печень, слизистую оболочку желуд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отрицательно влияет на репродуктивную функцию как мужчин, так и женщин, что приводит к бесплодию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6-04T06:16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